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media/image5.jpeg" ContentType="image/jpeg"/>
  <Override PartName="/ppt/media/image6.gif" ContentType="image/gif"/>
  <Override PartName="/ppt/media/image12.pct" ContentType="image/x-pict"/>
  <Override PartName="/ppt/media/projctor.wav" ContentType="audio/x-wav"/>
  <Override PartName="/ppt/media/image11.pct" ContentType="image/x-pict"/>
  <Override PartName="/ppt/media/image7.jpeg" ContentType="image/jpeg"/>
  <Override PartName="/ppt/media/image8.gif" ContentType="image/gif"/>
  <Override PartName="/ppt/media/image9.gif" ContentType="image/gif"/>
  <Override PartName="/ppt/media/image10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0B6E-74AA-43C0-BDBB-631A2178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15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920" y="2586240"/>
            <a:ext cx="8915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202A-AF02-4861-86DC-C90D8B88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4350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0320" y="914400"/>
            <a:ext cx="4350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1920" y="2586240"/>
            <a:ext cx="4350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0320" y="2586240"/>
            <a:ext cx="4350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2B32-4585-4CC5-BAF0-32B173D35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287064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6560" y="914400"/>
            <a:ext cx="287064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1200" y="914400"/>
            <a:ext cx="287064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1920" y="2586240"/>
            <a:ext cx="287064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6560" y="2586240"/>
            <a:ext cx="287064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1200" y="2586240"/>
            <a:ext cx="287064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3BFC-D207-49F8-8B15-663A1708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D6DF-B132-4DB7-8591-D23102A4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1920" y="9144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Kabob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621D-AF1A-4F7B-A170-8BF0B1F0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635D-FBE3-4B0B-875A-4752F089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4350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0320" y="914400"/>
            <a:ext cx="4350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22F3-BD67-438B-84FC-401024F9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5CD0-A3D6-4B56-9889-AC958028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99"/>
              </a:solidFill>
              <a:latin typeface="Kabob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FBF4-6179-4F48-A4AA-B228E6D9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4350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0320" y="914400"/>
            <a:ext cx="4350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1920" y="2586240"/>
            <a:ext cx="4350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5E44-6DBF-4EA1-843E-9E4E928C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1920" y="9144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Kabob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93CB-F617-4E4B-BB23-51C6F3AE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4350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0320" y="914400"/>
            <a:ext cx="4350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20320" y="2586240"/>
            <a:ext cx="4350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D98C-61FE-46A0-B1DD-430A5A83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4350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0320" y="914400"/>
            <a:ext cx="4350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1920" y="2586240"/>
            <a:ext cx="8915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223C-98E9-418F-8A51-D07D1517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15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1920" y="2586240"/>
            <a:ext cx="8915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49F0-BC39-43BA-9B1D-884345D4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4350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0320" y="914400"/>
            <a:ext cx="4350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1920" y="2586240"/>
            <a:ext cx="4350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20320" y="2586240"/>
            <a:ext cx="4350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84B2-BB82-4D9E-A30E-FCA63D4A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287064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6560" y="914400"/>
            <a:ext cx="287064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1200" y="914400"/>
            <a:ext cx="287064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1920" y="2586240"/>
            <a:ext cx="287064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6560" y="2586240"/>
            <a:ext cx="287064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1200" y="2586240"/>
            <a:ext cx="287064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5AED-DA18-4283-8E65-E4856E6E4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8971-030E-41A5-801E-749E5626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4350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0320" y="914400"/>
            <a:ext cx="4350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4F63-D0FF-4305-87A3-65D18790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EECB-A9CA-41B5-97B9-B3047703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99"/>
              </a:solidFill>
              <a:latin typeface="Kabob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B20B-3285-4985-B47F-966E8C7D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4350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0320" y="914400"/>
            <a:ext cx="4350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1920" y="2586240"/>
            <a:ext cx="4350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CDA9-A00C-4634-A6E6-582174A2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4350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0320" y="914400"/>
            <a:ext cx="4350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0320" y="2586240"/>
            <a:ext cx="4350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A4A2-B588-4502-B360-C5863118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4350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0320" y="914400"/>
            <a:ext cx="4350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1920" y="2586240"/>
            <a:ext cx="8915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A695-6B72-433C-A03C-D2CE74CC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237b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ras Bold IT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9144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Kabob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Kabob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  <a:p>
            <a:pPr lvl="2" marL="1005840" indent="-200880">
              <a:spcBef>
                <a:spcPts val="700"/>
              </a:spcBef>
              <a:buClr>
                <a:srgbClr val="000000"/>
              </a:buClr>
              <a:buFont typeface="Kabob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  <a:p>
            <a:pPr lvl="3" marL="1407960" indent="-200880">
              <a:spcBef>
                <a:spcPts val="700"/>
              </a:spcBef>
              <a:buClr>
                <a:srgbClr val="000000"/>
              </a:buClr>
              <a:buFont typeface="Kabob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  <a:p>
            <a:pPr lvl="4" marL="1810440" indent="-200880">
              <a:spcBef>
                <a:spcPts val="700"/>
              </a:spcBef>
              <a:buClr>
                <a:srgbClr val="000000"/>
              </a:buClr>
              <a:buFont typeface="Kabob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  <a:p>
            <a:pPr lvl="5" marL="1810440" indent="-200880">
              <a:spcBef>
                <a:spcPts val="700"/>
              </a:spcBef>
              <a:buClr>
                <a:srgbClr val="000000"/>
              </a:buClr>
              <a:buFont typeface="Kabob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  <a:p>
            <a:pPr lvl="6" marL="1810440" indent="-200880">
              <a:spcBef>
                <a:spcPts val="700"/>
              </a:spcBef>
              <a:buClr>
                <a:srgbClr val="000000"/>
              </a:buClr>
              <a:buFont typeface="Kabob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C6C3-72D0-4130-913B-9B5C08E974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28440">
            <a:solidFill>
              <a:srgbClr val="2e93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781680" y="4038480"/>
            <a:ext cx="2216160" cy="2217960"/>
          </a:xfrm>
          <a:prstGeom prst="ellipse">
            <a:avLst/>
          </a:prstGeom>
          <a:solidFill>
            <a:srgbClr val="ffffff"/>
          </a:solidFill>
          <a:ln w="127080">
            <a:solidFill>
              <a:srgbClr val="23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1600200"/>
            <a:ext cx="556236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ras Bold IT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523F-FE83-43F2-A97E-4A64261CB8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abobBlack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Kabob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abobBlac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KabobBlack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Kabob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abobBlack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KabobBlack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Kabob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abobBlac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KabobBlack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Kabob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abobBlack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KabobBlack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Kabob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abobBlack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KabobBlack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Kabob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abobBlack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Kabob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ct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ct"/><Relationship Id="rId7" Type="http://schemas.openxmlformats.org/officeDocument/2006/relationships/audio" Target="../media/projctor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ct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685800" y="1371600"/>
            <a:ext cx="7778880" cy="2370240"/>
            <a:chOff x="685800" y="1371600"/>
            <a:chExt cx="7778880" cy="2370240"/>
          </a:xfrm>
        </p:grpSpPr>
        <p:sp>
          <p:nvSpPr>
            <p:cNvPr id="86" name=""/>
            <p:cNvSpPr/>
            <p:nvPr/>
          </p:nvSpPr>
          <p:spPr>
            <a:xfrm>
              <a:off x="2316240" y="1450800"/>
              <a:ext cx="5946840" cy="312840"/>
            </a:xfrm>
            <a:prstGeom prst="rect">
              <a:avLst/>
            </a:prstGeom>
            <a:solidFill>
              <a:srgbClr val="2e93b2"/>
            </a:solidFill>
            <a:ln w="9360">
              <a:solidFill>
                <a:srgbClr val="237b97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16160" y="1371600"/>
              <a:ext cx="806400" cy="523800"/>
            </a:xfrm>
            <a:prstGeom prst="roundRect">
              <a:avLst>
                <a:gd name="adj" fmla="val 16667"/>
              </a:avLst>
            </a:prstGeom>
            <a:solidFill>
              <a:srgbClr val="74daf2"/>
            </a:solidFill>
            <a:ln w="9360">
              <a:solidFill>
                <a:srgbClr val="237b97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24160" y="1371600"/>
              <a:ext cx="806400" cy="523800"/>
            </a:xfrm>
            <a:prstGeom prst="roundRect">
              <a:avLst>
                <a:gd name="adj" fmla="val 16667"/>
              </a:avLst>
            </a:prstGeom>
            <a:solidFill>
              <a:srgbClr val="74daf2"/>
            </a:solidFill>
            <a:ln w="9360">
              <a:solidFill>
                <a:srgbClr val="237b97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32160" y="1371600"/>
              <a:ext cx="804960" cy="523800"/>
            </a:xfrm>
            <a:prstGeom prst="roundRect">
              <a:avLst>
                <a:gd name="adj" fmla="val 16667"/>
              </a:avLst>
            </a:prstGeom>
            <a:solidFill>
              <a:srgbClr val="74daf2"/>
            </a:solidFill>
            <a:ln w="9360">
              <a:solidFill>
                <a:srgbClr val="237b97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40160" y="1371600"/>
              <a:ext cx="804960" cy="523800"/>
            </a:xfrm>
            <a:prstGeom prst="roundRect">
              <a:avLst>
                <a:gd name="adj" fmla="val 16667"/>
              </a:avLst>
            </a:prstGeom>
            <a:solidFill>
              <a:srgbClr val="74daf2"/>
            </a:solidFill>
            <a:ln w="9360">
              <a:solidFill>
                <a:srgbClr val="237b97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246720" y="1371600"/>
              <a:ext cx="806400" cy="523800"/>
            </a:xfrm>
            <a:prstGeom prst="roundRect">
              <a:avLst>
                <a:gd name="adj" fmla="val 16667"/>
              </a:avLst>
            </a:prstGeom>
            <a:solidFill>
              <a:srgbClr val="74daf2"/>
            </a:solidFill>
            <a:ln w="9360">
              <a:solidFill>
                <a:srgbClr val="237b97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256520" y="1371600"/>
              <a:ext cx="804960" cy="523800"/>
            </a:xfrm>
            <a:prstGeom prst="roundRect">
              <a:avLst>
                <a:gd name="adj" fmla="val 16667"/>
              </a:avLst>
            </a:prstGeom>
            <a:solidFill>
              <a:srgbClr val="74daf2"/>
            </a:solidFill>
            <a:ln w="9360">
              <a:solidFill>
                <a:srgbClr val="237b97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11360" y="2682720"/>
              <a:ext cx="6248520" cy="1049400"/>
            </a:xfrm>
            <a:prstGeom prst="roundRect">
              <a:avLst>
                <a:gd name="adj" fmla="val 50000"/>
              </a:avLst>
            </a:prstGeom>
            <a:solidFill>
              <a:srgbClr val="74daf2"/>
            </a:solidFill>
            <a:ln w="28440">
              <a:solidFill>
                <a:srgbClr val="237b97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11280" y="1633680"/>
              <a:ext cx="6953400" cy="1441440"/>
            </a:xfrm>
            <a:prstGeom prst="parallelogram">
              <a:avLst>
                <a:gd name="adj" fmla="val 19363"/>
              </a:avLst>
            </a:prstGeom>
            <a:solidFill>
              <a:srgbClr val="2e93b2"/>
            </a:solidFill>
            <a:ln w="76320">
              <a:solidFill>
                <a:srgbClr val="237b97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" y="1523880"/>
              <a:ext cx="2216160" cy="2217960"/>
            </a:xfrm>
            <a:prstGeom prst="ellipse">
              <a:avLst/>
            </a:prstGeom>
            <a:solidFill>
              <a:srgbClr val="ffffff"/>
            </a:solidFill>
            <a:ln w="127080">
              <a:solidFill>
                <a:srgbClr val="237b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19160" y="1600200"/>
            <a:ext cx="556236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ras Bold ITC"/>
              </a:rPr>
              <a:t>Fraction</a:t>
            </a: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743200" y="3176280"/>
            <a:ext cx="4836960" cy="1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KabobBlack"/>
              </a:rPr>
              <a:t>Subtraction</a:t>
            </a:r>
            <a:endParaRPr b="0" lang="en-US" sz="2400" spc="-1" strike="noStrike">
              <a:solidFill>
                <a:srgbClr val="006699"/>
              </a:solidFill>
              <a:latin typeface="Kabob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60480" y="2038320"/>
            <a:ext cx="1684440" cy="1163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8534520" y="6400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118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ras Bold ITC"/>
              </a:rPr>
              <a:t>Try one</a:t>
            </a: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43815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Kabob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3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KabobBlack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/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KabobBlack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 – 1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KabobBlack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/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KabobBlack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162920" y="4351320"/>
            <a:ext cx="1371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ras Bold ITC"/>
              </a:rPr>
              <a:t>Try another</a:t>
            </a: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Kabob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1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KabobBlack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/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KabobBlack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 – 7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KabobBlack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/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KabobBlack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353360" y="4305240"/>
            <a:ext cx="1068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162920" y="4419720"/>
            <a:ext cx="1447560" cy="14475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ras Bold ITC"/>
              </a:rPr>
              <a:t>Subtraction</a:t>
            </a: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43815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Kabob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abobBlack"/>
              </a:rPr>
              <a:t>Two more examples</a:t>
            </a:r>
            <a:endParaRPr b="0" lang="en-US" sz="24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4648320"/>
            <a:ext cx="3505320" cy="1447560"/>
          </a:xfrm>
          <a:prstGeom prst="wedgeRectCallout">
            <a:avLst>
              <a:gd name="adj1" fmla="val 83560"/>
              <a:gd name="adj2" fmla="val -403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4648320"/>
            <a:ext cx="350532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 helps to remember how things work with whole numbers while learning frac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se are like 30 – 7   and 83 - 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r. Tur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76440" y="1695600"/>
          <a:ext cx="1288800" cy="21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440" y="1695600"/>
                    <a:ext cx="128880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257800" y="1333440"/>
          <a:ext cx="1428840" cy="201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1333440"/>
                    <a:ext cx="142884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437920"/>
            <a:ext cx="5562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ras Bold ITC"/>
              </a:rPr>
              <a:t>Simple</a:t>
            </a: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31240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abobBlack"/>
              </a:rPr>
              <a:t>Subtraction</a:t>
            </a:r>
            <a:endParaRPr b="0" lang="en-US" sz="2800" spc="-1" strike="noStrike">
              <a:solidFill>
                <a:srgbClr val="006699"/>
              </a:solidFill>
              <a:latin typeface="Kabob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7735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162920" y="4419720"/>
            <a:ext cx="1447560" cy="14475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ras Bold ITC"/>
              </a:rPr>
              <a:t>Subtraction</a:t>
            </a: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Kabob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Not too much different from addition.</a:t>
            </a: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4648320"/>
            <a:ext cx="3505320" cy="1447560"/>
          </a:xfrm>
          <a:prstGeom prst="wedgeRectCallout">
            <a:avLst>
              <a:gd name="adj1" fmla="val 83560"/>
              <a:gd name="adj2" fmla="val -403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648320"/>
            <a:ext cx="35053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) Get a common Denomin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)  Sub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054320" y="1371600"/>
                <a:ext cx="1460520" cy="31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bar>
                        <m:r>
                          <m:t xml:space="preserve">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6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ba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ras Bold ITC"/>
              </a:rPr>
              <a:t>Try one</a:t>
            </a: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Kabob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¾ -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KabobBlack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/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KabobBlack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353360" y="4305240"/>
            <a:ext cx="1068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ras Bold ITC"/>
              </a:rPr>
              <a:t>Try one</a:t>
            </a: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43815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Kabob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3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KabobBlack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/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KabobBlack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 – 1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KabobBlack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/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KabobBlack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162920" y="4411800"/>
            <a:ext cx="1523880" cy="1352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8991720" y="6553080"/>
            <a:ext cx="15228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077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437920"/>
            <a:ext cx="5562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ras Bold ITC"/>
              </a:rPr>
              <a:t>Subtraction</a:t>
            </a: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0" y="31240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abobBlack"/>
              </a:rPr>
              <a:t>With borrowing</a:t>
            </a:r>
            <a:endParaRPr b="0" lang="en-US" sz="2800" spc="-1" strike="noStrike">
              <a:solidFill>
                <a:srgbClr val="006699"/>
              </a:solidFill>
              <a:latin typeface="Kabob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505320" y="3581280"/>
            <a:ext cx="2743200" cy="1895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0388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162920" y="4419720"/>
            <a:ext cx="1447560" cy="14475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ras Bold ITC"/>
              </a:rPr>
              <a:t>Subtraction</a:t>
            </a: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Kabob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Try 4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KabobBlack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/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KabobBlack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 – 2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KabobBlack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/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KabobBlack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4648320"/>
            <a:ext cx="3505320" cy="1447560"/>
          </a:xfrm>
          <a:prstGeom prst="wedgeRectCallout">
            <a:avLst>
              <a:gd name="adj1" fmla="val 83560"/>
              <a:gd name="adj2" fmla="val -403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4648320"/>
            <a:ext cx="3505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different about this problem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162920" y="4419720"/>
            <a:ext cx="1447560" cy="1447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ras Bold ITC"/>
              </a:rPr>
              <a:t>Subtraction</a:t>
            </a: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Kabob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Try 4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KabobBlack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/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KabobBlack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 – 2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KabobBlack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/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KabobBlack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128" name=""/>
          <p:cNvSpPr/>
          <p:nvPr/>
        </p:nvSpPr>
        <p:spPr>
          <a:xfrm>
            <a:off x="2895480" y="4648320"/>
            <a:ext cx="3505320" cy="1447560"/>
          </a:xfrm>
          <a:prstGeom prst="wedgeRectCallout">
            <a:avLst>
              <a:gd name="adj1" fmla="val 83560"/>
              <a:gd name="adj2" fmla="val -403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4648320"/>
            <a:ext cx="3505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 have to borro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714840" y="1019160"/>
                <a:ext cx="1873080" cy="31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 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162920" y="4419720"/>
            <a:ext cx="1447560" cy="14475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ras Bold ITC"/>
              </a:rPr>
              <a:t>Subtraction</a:t>
            </a: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43815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Kabob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abobBlack"/>
              </a:rPr>
              <a:t>More examples</a:t>
            </a:r>
            <a:endParaRPr b="0" lang="en-US" sz="24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134" name=""/>
          <p:cNvSpPr/>
          <p:nvPr/>
        </p:nvSpPr>
        <p:spPr>
          <a:xfrm>
            <a:off x="2895480" y="4648320"/>
            <a:ext cx="3505320" cy="1447560"/>
          </a:xfrm>
          <a:prstGeom prst="wedgeRectCallout">
            <a:avLst>
              <a:gd name="adj1" fmla="val 83560"/>
              <a:gd name="adj2" fmla="val -403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5480" y="4648320"/>
            <a:ext cx="35053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L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rrow only when necess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09480" y="1295280"/>
                <a:ext cx="1422360" cy="293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7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37" name=""/>
          <p:cNvGraphicFramePr/>
          <p:nvPr/>
        </p:nvGraphicFramePr>
        <p:xfrm>
          <a:off x="5257800" y="762120"/>
          <a:ext cx="1428840" cy="31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762120"/>
                    <a:ext cx="1428840" cy="31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0:01:32Z</dcterms:created>
  <dc:creator>eclipse</dc:creator>
  <dc:description/>
  <dc:language>en-US</dc:language>
  <cp:lastModifiedBy>Parkland High School</cp:lastModifiedBy>
  <dcterms:modified xsi:type="dcterms:W3CDTF">2010-11-09T15:35:11Z</dcterms:modified>
  <cp:revision>22</cp:revision>
  <dc:subject/>
  <dc:title>Electric Sparkling Riptide</dc:title>
</cp:coreProperties>
</file>